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FF2-F8A4-4F3D-A6DA-8F65FFF3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0C3-DE03-497C-83BD-B4A3ED0D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1A1-B3BD-41EE-B4C7-AF078384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B11-4660-4F9A-86A0-6E200924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F77-190A-42AC-A2E4-BDEDBFA1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E8C-6002-4F62-8C13-0B31C5F7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651-0D53-45DD-9674-001DE3E3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029-6E0E-4A03-9A8F-5119B833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15E-943B-411E-875F-337BA1FB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677-8FE9-4CEE-8077-8761BB6E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720-6823-4524-A868-82ED501B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D8F-A970-47A0-9396-DE449CBB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8585-B395-4E54-B63A-3BE7179800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3920" y="914400"/>
            <a:ext cx="5388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Hospita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ase-Contro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ie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7238880" cy="99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7238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3733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5181480"/>
            <a:ext cx="72392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23888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23888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7238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327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238880" cy="609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57600" y="4419720"/>
            <a:ext cx="380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239240" cy="3276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7239240" cy="609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72392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238880" cy="990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05720" y="49528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23924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7239240" cy="99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81680" y="3657600"/>
            <a:ext cx="1524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66680" y="4038480"/>
            <a:ext cx="7239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238880" cy="45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723888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238880" cy="3657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723888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6172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66880" y="4876920"/>
            <a:ext cx="1828800" cy="3808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90720" y="3581280"/>
            <a:ext cx="7238880" cy="520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723888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7162920" cy="1435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934320" y="541008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716292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0" y="3581280"/>
            <a:ext cx="13716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7239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16292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66680" y="4572000"/>
            <a:ext cx="716292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441972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7162920" cy="609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28800" y="304812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7162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3352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7162920" cy="99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48320" y="4495680"/>
            <a:ext cx="35812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16292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7162920" cy="990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48320" y="3657600"/>
            <a:ext cx="35812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66680" y="4191120"/>
            <a:ext cx="7162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162920" cy="3353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71629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716256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7162560" cy="507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19320" y="3809880"/>
            <a:ext cx="71625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162920" cy="3886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43000" y="4876920"/>
            <a:ext cx="71629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162560" cy="2971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7162560" cy="533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19320" y="3886200"/>
            <a:ext cx="7162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4448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95320" y="5145120"/>
            <a:ext cx="79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s who are both smokers and have cancer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-represented in a hospital study population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d to the community pop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2388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09:49Z</dcterms:modified>
  <cp:revision>212</cp:revision>
  <dc:subject/>
  <dc:title>Slide 1</dc:title>
</cp:coreProperties>
</file>